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7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18.pct" ContentType="image/x-pict"/>
  <Override PartName="/ppt/media/image1.jpeg" ContentType="image/jpeg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D4372-38E0-4D5E-AE1A-2CE19B870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1C08B-7402-4E99-9EAD-297AEA25A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3E4F8-EE26-4994-88EB-F13094872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6AE4C-4CFC-4B8C-8BC1-D33F92268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46D6B-9D14-43F0-AAC4-6BD23AD75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3C51A-384F-4805-8FB7-1644F57DA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642E1-6B3C-4453-B5EE-D462E84BB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86486-761D-442B-8772-CA8FC7E8D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A19CA-4BE8-4474-B09C-1B2E3DA08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77CF8-5BEF-4DE6-B3AE-07E3F4A51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5B2C3-A282-4411-9401-59B388918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0F951-6595-4C2E-8A0E-6E817974D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25174-6DEE-4818-A356-1ED1ACE60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D59BA-23B7-43F7-B9EA-52D712D39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A0426-D63C-48D3-8ECD-02857FCEA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E2709-126E-4C5E-904C-5E2F78629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7DB18-A417-4086-88D4-9E31B52BB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38848-5FA1-4868-A5FF-B815EA585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8C60F-C477-4896-BE3C-9E7F022D6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41C92-9FFF-4849-A909-9A7E64CB8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C3472-E22A-4465-BF5B-DB6BD5A3F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EAA1A-6B7D-4F01-A004-074397045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BCD15-0460-4787-8AF0-0AE63E112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9389C-5FD0-4600-8961-D15979933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8F546-EEBB-4C18-9389-27DEE00050C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8E207-41A7-4C47-B6AC-2EA30123094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ct"/><Relationship Id="rId3" Type="http://schemas.openxmlformats.org/officeDocument/2006/relationships/image" Target="../media/image4.pct"/><Relationship Id="rId4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ct"/><Relationship Id="rId4" Type="http://schemas.openxmlformats.org/officeDocument/2006/relationships/image" Target="../media/image6.pct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image" Target="../media/image9.pct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image" Target="../media/image12.pct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ct"/><Relationship Id="rId3" Type="http://schemas.openxmlformats.org/officeDocument/2006/relationships/image" Target="../media/image14.pct"/><Relationship Id="rId4" Type="http://schemas.openxmlformats.org/officeDocument/2006/relationships/image" Target="../media/image15.pct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Transcendentalism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447920" y="2286000"/>
            <a:ext cx="6400800" cy="17524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Individual is the World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471840" y="517536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091040" y="4567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334120" y="3124080"/>
            <a:ext cx="3581280" cy="28195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762120" y="2971800"/>
            <a:ext cx="3809880" cy="289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Are these people Nonconformists? Why?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685800" y="1523880"/>
            <a:ext cx="1752480" cy="20574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3166920" y="3809880"/>
            <a:ext cx="1735200" cy="20196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2956320" y="6019920"/>
            <a:ext cx="2283840" cy="6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Brush Script MT"/>
              </a:rPr>
              <a:t>Madonna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12080" y="3884760"/>
            <a:ext cx="136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min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4"/>
          <a:stretch/>
        </p:blipFill>
        <p:spPr>
          <a:xfrm>
            <a:off x="5791320" y="1905120"/>
            <a:ext cx="2211120" cy="297180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6576480" y="492588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.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Ask Yourself….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n Transcendentalism really be defined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much power do political, religious, and corporate institutions wield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n one person make a difference in our society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ould individuals have more power than they do? Why or why not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7e7ff"/>
                </a:solidFill>
                <a:latin typeface="Arial"/>
              </a:rPr>
              <a:t>Founders and Supporters</a:t>
            </a:r>
            <a:endParaRPr b="0" lang="en-US" sz="32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48503"/>
                </a:solidFill>
                <a:latin typeface="Arial"/>
              </a:rPr>
              <a:t>Ralph Waldo Emerson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 young Boston pastor who began questioning his beliefs when the industrial revolution had shown that machines could replace people and the individual did not matter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48503"/>
                </a:solidFill>
                <a:latin typeface="Arial"/>
              </a:rPr>
              <a:t>Amos Bronson Alcott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sisted that students should not be taught through routine memorization, but instead be challenged to think, debate and discus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4756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7e7ff"/>
                </a:solidFill>
                <a:latin typeface="Arial"/>
              </a:rPr>
              <a:t>Founder and Supporters (Cont.)</a:t>
            </a:r>
            <a:endParaRPr b="0" lang="en-US" sz="32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86080" cy="44226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48503"/>
                </a:solidFill>
                <a:latin typeface="Arial"/>
              </a:rPr>
              <a:t>Henry David Thoreau-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avy follower of Emerson. To protest slavery and the Mexican War, he refused to pay taxes and spent one night in priso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action began the idea of nonviolent civil disobedience that was adopted by many others such as Gandhi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56240" y="1676160"/>
            <a:ext cx="4186080" cy="44226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5334120" y="1523880"/>
            <a:ext cx="2877840" cy="2438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4876920" y="4191120"/>
            <a:ext cx="3454200" cy="26668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What did Transcendentalists believe?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human mind is so powerful that it can unlock any mystery, from the intricacies of nature to the wonder of God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cording to Emerson, “The individual is the world” (This was in an age that gave all authority to organized institution)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191120"/>
            <a:ext cx="7772400" cy="26668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0" y="-914400"/>
          <a:ext cx="9144000" cy="4114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-914400"/>
                    <a:ext cx="9144000" cy="411480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2727" dir="2700000" blurRad="0" rotWithShape="0">
                      <a:srgbClr val="808080">
                        <a:alpha val="75000"/>
                      </a:srgbClr>
                    </a:outerShdw>
                  </a:effectLst>
                </p:spPr>
              </p:pic>
            </p:oleObj>
          </a:graphicData>
        </a:graphic>
      </p:graphicFrame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838080" y="3657600"/>
            <a:ext cx="746784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7e7ff"/>
                </a:solidFill>
                <a:latin typeface="Arial"/>
              </a:rPr>
              <a:t>How do we identify transcendentalist writing?</a:t>
            </a: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will contain at least one of the following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power of the human mind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oneness of humans with natur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nonconforming-type statement or mess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7e7ff"/>
                </a:solidFill>
                <a:latin typeface="Arial"/>
              </a:rPr>
              <a:t>Traditionalism (What Transcendentalism revolted against)</a:t>
            </a: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ould Ned Flanders be considered a Traditionalist. Why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62120" y="1981080"/>
            <a:ext cx="1887480" cy="25909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3200400" y="1981080"/>
            <a:ext cx="2438280" cy="20322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4"/>
          <a:stretch/>
        </p:blipFill>
        <p:spPr>
          <a:xfrm>
            <a:off x="5943600" y="1905120"/>
            <a:ext cx="1641600" cy="213336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Nonconformist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y would Homer be a nonconformist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304920" y="2438280"/>
            <a:ext cx="2743200" cy="20574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6400800" y="2514600"/>
            <a:ext cx="2209680" cy="19810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4"/>
          <a:stretch/>
        </p:blipFill>
        <p:spPr>
          <a:xfrm>
            <a:off x="3581280" y="2209680"/>
            <a:ext cx="2184480" cy="22734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Are these people Traditionalists?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228600" y="1676520"/>
            <a:ext cx="2085840" cy="29718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2666880" y="1752480"/>
            <a:ext cx="2819520" cy="28702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53000" y="4952880"/>
            <a:ext cx="21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eff Foxworth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669400" y="4952880"/>
            <a:ext cx="273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Tanner Fami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5867280" y="1676520"/>
            <a:ext cx="2540160" cy="29718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6326280" y="4952880"/>
            <a:ext cx="197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l Gibson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2T15:34:33Z</dcterms:created>
  <dc:creator>Buffalo Grove High School</dc:creator>
  <dc:description/>
  <dc:language>en-US</dc:language>
  <cp:lastModifiedBy>Buffalo Grove High School</cp:lastModifiedBy>
  <cp:lastPrinted>2007-01-02T14:11:22Z</cp:lastPrinted>
  <dcterms:modified xsi:type="dcterms:W3CDTF">2007-11-19T13:15:12Z</dcterms:modified>
  <cp:revision>15</cp:revision>
  <dc:subject/>
  <dc:title>Transcendentalism</dc:title>
</cp:coreProperties>
</file>